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7668-9CC1-4E86-9E14-8AF827E7E2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E6B9-EBB5-43C6-B6FD-9E4300D2AC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Any amino acids in excess of the biosynthetic needs of the cell are rapidly degraded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The first phase of catabolis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he removal of the α-amino groups (usually by transamination and subsequent oxidative deamination), forming ammonia and the corresponding α-keto acid—the “carbon skeletons” of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portion of the free ammonia is excreted in the urine, but most is used in the synthesis of urea (Figure 19.1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quantitatively the most important route for disposing of nitrogen from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962C-557F-4FF6-9845-6F849B4B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C6FD-6637-44B2-8F77-06C786FFA48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E91C-6805-41EF-B88C-208A29D8BC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FBAB-81B4-4A78-A5A3-6024E2B7FF4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94E9-8C41-425C-976E-1ADFAB52BEA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FDA8-2487-406E-92B7-28199FB3276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A431-EC65-41A9-9753-5B2A3B8980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fats and carbohydrates,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mino acids are not stored by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no protein exists wh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 function is to maintain a supply of amino acids for future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F1E5-F1E7-4382-B3C5-8E51F58B7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ECA3-4E9E-47DE-890A-07126DB6CDC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8663-21CB-44F4-94EA-A8EA20AD43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1923-C0D5-45DF-AD4F-EF1DC119D30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98F-93F0-424C-9B08-E87ECA0EDE6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03D0-9FEF-4C2B-B0B3-601DECB296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B578-22CE-47E9-B1EB-44D3BE2517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F2C2-1D4F-4A2A-927B-96D94E5156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000000"/>
                </a:solidFill>
                <a:latin typeface="Aharoni"/>
                <a:ea typeface="Aharoni"/>
              </a:rPr>
              <a:t>Overall Nitrogen Metabolism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mino acid catabolis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art of the larger process of the metabolism of nitrogen-containing molecul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enters the body i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variety of compounds present in food,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most importan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ing amino acids contained in dietary prote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leaves the body as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ure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mmon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oth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oducts derived from amino acid metabolis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The role of body protei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se transformatio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l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wo important concepts: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amino acid pool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nd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 protein turnover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F34D-4C5C-425A-96E9-E11818FD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7875-06B4-4B8C-8893-30CD541881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410-58ED-4932-9100-7A7CF76EB24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3F8F-D2A5-43D3-BA7C-909B3CB5DA7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AFD0-8929-4FED-8D99-E2E9B66DE97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C06B-051E-4B33-BD87-E4AFE0B2756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in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ny proteins,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egulation of synthe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he concentration of protein in the cell, with protein degradation assuming a minor r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proteins, the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ate of synthesis is constit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relatively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ellular levels of the protein are controlled by selective degrad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D8E3-BB4C-4159-8547-536031CB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05EB6-2A8F-4247-83DE-02B961AC35F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portion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of the free ammonia is excreted in urine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but most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is used in the synthesis of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CBC-874E-4A56-820F-AA2F71A80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B95-AC0A-4647-A62E-016B1230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0C7D-0500-40C0-AF36-63ABA967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EAC-119F-433A-A7C6-5E6661A0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0786-FDFC-4169-B5C9-405766B0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41DB-18BE-4F33-9AAA-29148F20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A6E8-8141-48E5-96F7-6170A89D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83-AD28-42A1-841D-3541F356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5C33-C3FB-408A-8C1E-3713BF2A9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9DD5-200E-46C1-B2DC-DA42E889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B8DC-B335-475A-B2B8-CFC9EA3E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709-854A-4AB3-90EB-D267F084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C3F-81E5-4BC0-A826-0AE331DC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3506-A9D2-4C0B-8A19-28BD3E29288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mino Acids Metabolism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66400" y="765000"/>
            <a:ext cx="8481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produced by all tissues from the catabolism of amino acids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mainly  disposed is via formation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re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Blood level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must be kept very low, otherwis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hyperammonemia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CNS toxicit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ill occ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o solve this problem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transported from peripheral tissues to liver via form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1-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Glutamine (most tiss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-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Alanine (muscl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89080" y="366840"/>
            <a:ext cx="8610480" cy="5814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hase of A. A. catabo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9080" y="3860640"/>
            <a:ext cx="8610480" cy="259272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ATP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2 &amp; H2O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by Citric acid cyc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Glucose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 (by gluconeogen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Fatty Acid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Ketone Bodie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6"/>
          <p:cNvSpPr/>
          <p:nvPr/>
        </p:nvSpPr>
        <p:spPr>
          <a:xfrm>
            <a:off x="4067280" y="2492280"/>
            <a:ext cx="936360" cy="1279800"/>
          </a:xfrm>
          <a:prstGeom prst="downArrow">
            <a:avLst>
              <a:gd name="adj1" fmla="val 50000"/>
              <a:gd name="adj2" fmla="val 50027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9280" y="1220760"/>
            <a:ext cx="872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haroni"/>
              </a:rPr>
              <a:t>arbon skeletons of the α-ketoacids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are converted to common intermediates of energy producing, metabolic pathw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3516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07640" cy="7909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70c0"/>
                </a:solidFill>
                <a:latin typeface="Verdana"/>
              </a:rPr>
              <a:t>Amino Acids Metabolism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Removal of Nitrogen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64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-amino group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446040" y="2997360"/>
            <a:ext cx="8229600" cy="7189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  <a:ea typeface="Verdana"/>
              </a:rPr>
              <a:t>Deamination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24000" y="4097160"/>
            <a:ext cx="8496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Amino group (nitrogen) is removed from an amino acid by eith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amination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transamin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xidativ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-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ns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471600" y="1927080"/>
            <a:ext cx="3271680" cy="4034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995640" y="2421000"/>
            <a:ext cx="5256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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ccepts th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mino group from amino acids to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ecome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glutamate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y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Verdana"/>
              </a:rPr>
              <a:t>Transaminases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aminotransferases)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0" lang="en-US" sz="1600" spc="-1" strike="noStrike">
                <a:solidFill>
                  <a:srgbClr val="0070c0"/>
                </a:solidFill>
                <a:latin typeface="Verdana"/>
              </a:rPr>
              <a:t>Glutamate dehydrogenase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monia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 flipH="1">
            <a:off x="3059280" y="2641680"/>
            <a:ext cx="1296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3068280" y="4437000"/>
            <a:ext cx="1366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68360" y="189000"/>
            <a:ext cx="8229600" cy="9936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Trans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41720" y="1268280"/>
            <a:ext cx="53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L  Amino Acids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xcept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ysine &amp; threonin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9"/>
          <p:cNvSpPr/>
          <p:nvPr/>
        </p:nvSpPr>
        <p:spPr>
          <a:xfrm flipH="1">
            <a:off x="766800" y="6002280"/>
            <a:ext cx="10684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235440" y="6264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ergy, glucose, FAs or KB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6"/>
          <p:cNvSpPr/>
          <p:nvPr/>
        </p:nvSpPr>
        <p:spPr>
          <a:xfrm>
            <a:off x="4775040" y="4818240"/>
            <a:ext cx="1373400" cy="37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7"/>
          <p:cNvSpPr/>
          <p:nvPr/>
        </p:nvSpPr>
        <p:spPr>
          <a:xfrm>
            <a:off x="468360" y="3859200"/>
            <a:ext cx="3238560" cy="459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ami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28"/>
          <p:cNvSpPr/>
          <p:nvPr/>
        </p:nvSpPr>
        <p:spPr>
          <a:xfrm flipH="1">
            <a:off x="554760" y="1906560"/>
            <a:ext cx="10702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29"/>
          <p:cNvSpPr/>
          <p:nvPr/>
        </p:nvSpPr>
        <p:spPr>
          <a:xfrm flipH="1">
            <a:off x="4638600" y="3776760"/>
            <a:ext cx="171792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Glutam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transamination ste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enzyme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d for trans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further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 flipH="1">
            <a:off x="1835280" y="2414520"/>
            <a:ext cx="1728720" cy="438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4500720" y="2414520"/>
            <a:ext cx="1511280" cy="4381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1763640" y="3429000"/>
            <a:ext cx="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>
            <a:off x="6084720" y="3429000"/>
            <a:ext cx="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755640" y="274680"/>
            <a:ext cx="7931160" cy="1138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Oxidative deamination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by 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0000cc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as: 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Skeletal 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These disorders can be distinguished clinically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gency FB"/>
              </a:rPr>
              <a:t>Transde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Verdana"/>
              </a:rPr>
              <a:t>►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t is combination of transamination &amp; oxidative de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It includes the transamination of most a.as with </a:t>
            </a:r>
            <a:r>
              <a:rPr b="0" lang="el-GR" sz="2000" spc="-1" strike="noStrike">
                <a:solidFill>
                  <a:srgbClr val="0000cc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keto glutarate to form glutamate then the glutamate is oxidatively deaminated reforming </a:t>
            </a:r>
            <a:r>
              <a:rPr b="0" lang="el-GR" sz="2000" spc="-1" strike="noStrike">
                <a:solidFill>
                  <a:srgbClr val="0000cc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00cc"/>
                </a:solidFill>
                <a:latin typeface="Verdana"/>
              </a:rPr>
              <a:t> keto glutarate and giving ammonia. This provides a pathway by which the amino group of most a.as is released in the form of ammo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801880" y="524664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"/>
          <p:cNvGrpSpPr/>
          <p:nvPr/>
        </p:nvGrpSpPr>
        <p:grpSpPr>
          <a:xfrm>
            <a:off x="392040" y="3354480"/>
            <a:ext cx="7925040" cy="2666880"/>
            <a:chOff x="392040" y="3354480"/>
            <a:chExt cx="7925040" cy="2666880"/>
          </a:xfrm>
        </p:grpSpPr>
        <p:sp>
          <p:nvSpPr>
            <p:cNvPr id="129" name="Rectangle 4"/>
            <p:cNvSpPr/>
            <p:nvPr/>
          </p:nvSpPr>
          <p:spPr>
            <a:xfrm>
              <a:off x="1001520" y="3583080"/>
              <a:ext cx="1066680" cy="45720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a.a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5"/>
            <p:cNvSpPr/>
            <p:nvPr/>
          </p:nvSpPr>
          <p:spPr>
            <a:xfrm>
              <a:off x="468000" y="5411880"/>
              <a:ext cx="1600200" cy="533160"/>
            </a:xfrm>
            <a:prstGeom prst="rect">
              <a:avLst/>
            </a:prstGeom>
            <a:solidFill>
              <a:srgbClr val="ffcc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keto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6"/>
            <p:cNvSpPr/>
            <p:nvPr/>
          </p:nvSpPr>
          <p:spPr>
            <a:xfrm>
              <a:off x="3287520" y="3506760"/>
              <a:ext cx="251460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a50021"/>
                  </a:solidFill>
                  <a:latin typeface="Arial"/>
                </a:rPr>
                <a:t>α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- keto glutar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7"/>
            <p:cNvSpPr/>
            <p:nvPr/>
          </p:nvSpPr>
          <p:spPr>
            <a:xfrm>
              <a:off x="3287520" y="5411880"/>
              <a:ext cx="251460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Arial"/>
                </a:rPr>
                <a:t>Glutamic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8"/>
            <p:cNvSpPr/>
            <p:nvPr/>
          </p:nvSpPr>
          <p:spPr>
            <a:xfrm>
              <a:off x="2066760" y="3808440"/>
              <a:ext cx="609480" cy="1981080"/>
            </a:xfrm>
            <a:custGeom>
              <a:avLst/>
              <a:gdLst>
                <a:gd name="textAreaLeft" fmla="*/ 0 w 609480"/>
                <a:gd name="textAreaRight" fmla="*/ 427680 w 60948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9"/>
            <p:cNvSpPr/>
            <p:nvPr/>
          </p:nvSpPr>
          <p:spPr>
            <a:xfrm>
              <a:off x="2678040" y="3735360"/>
              <a:ext cx="533160" cy="205740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514080 h 2057400"/>
                <a:gd name="textAreaBottom" fmla="*/ 154332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0"/>
            <p:cNvSpPr/>
            <p:nvPr/>
          </p:nvSpPr>
          <p:spPr>
            <a:xfrm>
              <a:off x="1763640" y="3583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1"/>
            <p:cNvSpPr/>
            <p:nvPr/>
          </p:nvSpPr>
          <p:spPr>
            <a:xfrm>
              <a:off x="1763640" y="5488200"/>
              <a:ext cx="761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2"/>
            <p:cNvSpPr/>
            <p:nvPr/>
          </p:nvSpPr>
          <p:spPr>
            <a:xfrm>
              <a:off x="392040" y="4497480"/>
              <a:ext cx="2133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66"/>
                  </a:solidFill>
                  <a:latin typeface="Arial"/>
                </a:rPr>
                <a:t>Glutamate transamina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3"/>
            <p:cNvSpPr/>
            <p:nvPr/>
          </p:nvSpPr>
          <p:spPr>
            <a:xfrm>
              <a:off x="2830320" y="335448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5"/>
            <p:cNvSpPr/>
            <p:nvPr/>
          </p:nvSpPr>
          <p:spPr>
            <a:xfrm>
              <a:off x="5802480" y="3735360"/>
              <a:ext cx="761760" cy="1981080"/>
            </a:xfrm>
            <a:custGeom>
              <a:avLst/>
              <a:gdLst>
                <a:gd name="textAreaLeft" fmla="*/ 0 w 761760"/>
                <a:gd name="textAreaRight" fmla="*/ 534240 w 761760"/>
                <a:gd name="textAreaTop" fmla="*/ 495360 h 1981080"/>
                <a:gd name="textAreaBottom" fmla="*/ 148608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5400"/>
                    <a:pt x="21600" y="10800"/>
                  </a:cubicBezTo>
                  <a:lnTo>
                    <a:pt x="21600" y="10800"/>
                  </a:lnTo>
                  <a:cubicBezTo>
                    <a:pt x="21600" y="162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17"/>
            <p:cNvSpPr/>
            <p:nvPr/>
          </p:nvSpPr>
          <p:spPr>
            <a:xfrm>
              <a:off x="6564600" y="3963960"/>
              <a:ext cx="380880" cy="1523880"/>
            </a:xfrm>
            <a:custGeom>
              <a:avLst/>
              <a:gdLst>
                <a:gd name="textAreaLeft" fmla="*/ 111960 w 380880"/>
                <a:gd name="textAreaRight" fmla="*/ 381240 w 380880"/>
                <a:gd name="textAreaTop" fmla="*/ 380880 h 1523880"/>
                <a:gd name="textAreaBottom" fmla="*/ 114300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6488280" y="358308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497560" y="350676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0"/>
            <p:cNvSpPr/>
            <p:nvPr/>
          </p:nvSpPr>
          <p:spPr>
            <a:xfrm>
              <a:off x="7174080" y="5259600"/>
              <a:ext cx="5331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H2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1"/>
            <p:cNvSpPr/>
            <p:nvPr/>
          </p:nvSpPr>
          <p:spPr>
            <a:xfrm>
              <a:off x="7021800" y="3659040"/>
              <a:ext cx="685800" cy="380880"/>
            </a:xfrm>
            <a:prstGeom prst="rect">
              <a:avLst/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NH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2"/>
            <p:cNvSpPr/>
            <p:nvPr/>
          </p:nvSpPr>
          <p:spPr>
            <a:xfrm>
              <a:off x="7098120" y="4649760"/>
              <a:ext cx="8380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00"/>
                  </a:solidFill>
                  <a:latin typeface="Arial"/>
                </a:rPr>
                <a:t>NAD(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3"/>
            <p:cNvSpPr/>
            <p:nvPr/>
          </p:nvSpPr>
          <p:spPr>
            <a:xfrm>
              <a:off x="7174080" y="4116240"/>
              <a:ext cx="1143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00"/>
                  </a:solidFill>
                  <a:latin typeface="Arial"/>
                </a:rPr>
                <a:t>NAD(P)</a:t>
              </a:r>
              <a:r>
                <a:rPr b="1" lang="en-US" sz="1600" spc="-1" strike="noStrike">
                  <a:solidFill>
                    <a:srgbClr val="663300"/>
                  </a:solidFill>
                  <a:latin typeface="Arial"/>
                </a:rPr>
                <a:t>H+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4"/>
            <p:cNvSpPr/>
            <p:nvPr/>
          </p:nvSpPr>
          <p:spPr>
            <a:xfrm>
              <a:off x="6564600" y="4344840"/>
              <a:ext cx="533160" cy="533160"/>
            </a:xfrm>
            <a:custGeom>
              <a:avLst/>
              <a:gdLst>
                <a:gd name="textAreaLeft" fmla="*/ 156600 w 533160"/>
                <a:gd name="textAreaRight" fmla="*/ 533520 w 533160"/>
                <a:gd name="textAreaTop" fmla="*/ 133200 h 533160"/>
                <a:gd name="textAreaBottom" fmla="*/ 399960 h 53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5"/>
            <p:cNvSpPr/>
            <p:nvPr/>
          </p:nvSpPr>
          <p:spPr>
            <a:xfrm>
              <a:off x="6640560" y="3963960"/>
              <a:ext cx="8380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6"/>
            <p:cNvSpPr/>
            <p:nvPr/>
          </p:nvSpPr>
          <p:spPr>
            <a:xfrm>
              <a:off x="4125960" y="4573440"/>
              <a:ext cx="2286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-GLUTAMATE</a:t>
              </a: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EHYDROGENASE ENZY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7"/>
            <p:cNvSpPr/>
            <p:nvPr/>
          </p:nvSpPr>
          <p:spPr>
            <a:xfrm>
              <a:off x="5497560" y="5411880"/>
              <a:ext cx="761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8"/>
            <p:cNvSpPr/>
            <p:nvPr/>
          </p:nvSpPr>
          <p:spPr>
            <a:xfrm>
              <a:off x="6640560" y="52596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6227640" y="1197000"/>
            <a:ext cx="2718000" cy="5040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7832520" cy="648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Metabolism of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6480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s produced by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ll tissue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during metabo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of a variety of  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is disposed of primarily by formation of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ure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n the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level of ammonia in blood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must be kept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Slightly elevated concentrations (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hyperammonem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) are toxic to C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So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here must be a mechanism by which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 is moved from peripheral tissues to the liver for disposal as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hil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mmonia must be maintained at low levels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3"/>
          <p:cNvGrpSpPr/>
          <p:nvPr/>
        </p:nvGrpSpPr>
        <p:grpSpPr>
          <a:xfrm>
            <a:off x="1731960" y="324000"/>
            <a:ext cx="5564160" cy="2833560"/>
            <a:chOff x="1731960" y="324000"/>
            <a:chExt cx="5564160" cy="2833560"/>
          </a:xfrm>
        </p:grpSpPr>
        <p:pic>
          <p:nvPicPr>
            <p:cNvPr id="50" name="Oval 3" descr=""/>
            <p:cNvPicPr/>
            <p:nvPr/>
          </p:nvPicPr>
          <p:blipFill>
            <a:blip r:embed="rId1"/>
            <a:stretch/>
          </p:blipFill>
          <p:spPr>
            <a:xfrm>
              <a:off x="1731960" y="324000"/>
              <a:ext cx="5564160" cy="28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49680" y="919080"/>
              <a:ext cx="35305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No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Sto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of 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Amino Acids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in the bo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lowchart: Alternate Process 4"/>
          <p:cNvSpPr/>
          <p:nvPr/>
        </p:nvSpPr>
        <p:spPr>
          <a:xfrm>
            <a:off x="468360" y="3048120"/>
            <a:ext cx="8207280" cy="3260520"/>
          </a:xfrm>
          <a:prstGeom prst="flowChartAlternateProcess">
            <a:avLst/>
          </a:prstGeom>
          <a:solidFill>
            <a:srgbClr val="d7f4f5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,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amino acids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must be obtain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novo synthesis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(of non-essential 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gradat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in (normal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826920" y="1628640"/>
            <a:ext cx="1152720" cy="64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ea </a:t>
            </a:r>
            <a:r>
              <a:rPr b="0" lang="en-US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in the 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s quantitatively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ost importan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isposal route for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 is formed in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ver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rom ammonia (urea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travels in the blood from the liver to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where it is filtered to appear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posal of Ammoni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826920" y="333360"/>
            <a:ext cx="24498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t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st peripheral tissues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pecially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brain, sk.ms. &amp;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st peripheral tissues, glutamate binds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action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synt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ra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it is the major mechanism of removal of ammonia from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structure provides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toxic storage &amp; transport form of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is transported to blood to other organs esp. liver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liver &amp; Kidney, glutamine is converted to ammonia &amp; glutamate by the enzy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6119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755640" y="260280"/>
            <a:ext cx="2016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381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keletal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+  Pyruvate  form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in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yruvate can be converted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(by glucone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n enter the blood to be used by skeletal muscl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GLUCOSE - ALANINE PATH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116000" y="3500280"/>
            <a:ext cx="6769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824360" cy="554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Disposal of Ammon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430200" y="486900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a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430200" y="1773360"/>
            <a:ext cx="3260880" cy="11912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u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Most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p. brain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30200" y="357336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650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Ure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 is produced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liver, it is transported in the blood to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or excretion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Urea is compo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wo nit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rst nitrogen atom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ree 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nitrogen atom 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spar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rbon &amp; oxygen atoms are from 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Reactions of the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two reac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ain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actions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mmonia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Aspart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UREA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Fumar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AD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AM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P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468360" y="2708280"/>
            <a:ext cx="84247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 flipH="1">
            <a:off x="1042920" y="3213000"/>
            <a:ext cx="1657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 flipH="1">
            <a:off x="1042920" y="3357720"/>
            <a:ext cx="2881440" cy="13665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 flipH="1">
            <a:off x="2987640" y="3357720"/>
            <a:ext cx="93672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 flipH="1">
            <a:off x="1042920" y="3213000"/>
            <a:ext cx="4681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0"/>
          <p:cNvSpPr/>
          <p:nvPr/>
        </p:nvSpPr>
        <p:spPr>
          <a:xfrm flipH="1">
            <a:off x="4356000" y="3284640"/>
            <a:ext cx="2376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H="1">
            <a:off x="5508720" y="3284640"/>
            <a:ext cx="1295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2"/>
          <p:cNvSpPr/>
          <p:nvPr/>
        </p:nvSpPr>
        <p:spPr>
          <a:xfrm flipH="1">
            <a:off x="6372000" y="3284640"/>
            <a:ext cx="43164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>
            <a:off x="6804000" y="3284640"/>
            <a:ext cx="504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501480" y="5589720"/>
            <a:ext cx="83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esis of ure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high-energy phosphate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consumed for synthesi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e of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Overview of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Fate of 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thesized in the l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eaved by 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stool                   Reabsorbed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4500720" y="2492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 flipH="1">
            <a:off x="2556000" y="3141720"/>
            <a:ext cx="18000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4429080" y="3116160"/>
            <a:ext cx="2303640" cy="35892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H="1">
            <a:off x="2410920" y="3933720"/>
            <a:ext cx="180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6659640" y="3933720"/>
            <a:ext cx="0" cy="5749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"/>
          <p:cNvSpPr/>
          <p:nvPr/>
        </p:nvSpPr>
        <p:spPr>
          <a:xfrm flipH="1">
            <a:off x="6084720" y="4941720"/>
            <a:ext cx="64800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6659640" y="4941720"/>
            <a:ext cx="57636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"/>
          <p:cNvSpPr/>
          <p:nvPr/>
        </p:nvSpPr>
        <p:spPr>
          <a:xfrm flipH="1">
            <a:off x="4932000" y="5516640"/>
            <a:ext cx="576360" cy="3618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508720" y="5516640"/>
            <a:ext cx="1079280" cy="288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Content Placeholder 4"/>
          <p:cNvGrpSpPr/>
          <p:nvPr/>
        </p:nvGrpSpPr>
        <p:grpSpPr>
          <a:xfrm>
            <a:off x="2139840" y="2646360"/>
            <a:ext cx="4864320" cy="2608200"/>
            <a:chOff x="2139840" y="2646360"/>
            <a:chExt cx="4864320" cy="2608200"/>
          </a:xfrm>
        </p:grpSpPr>
        <p:pic>
          <p:nvPicPr>
            <p:cNvPr id="54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646360"/>
              <a:ext cx="486432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901960" y="3048120"/>
              <a:ext cx="334008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Verdana"/>
                  <a:ea typeface="Verdana"/>
                </a:rPr>
                <a:t>Amino Acids Po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Group 23" descr=""/>
          <p:cNvPicPr/>
          <p:nvPr/>
        </p:nvPicPr>
        <p:blipFill>
          <a:blip r:embed="rId2"/>
          <a:stretch/>
        </p:blipFill>
        <p:spPr>
          <a:xfrm>
            <a:off x="981000" y="1133640"/>
            <a:ext cx="24685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Group 22" descr=""/>
          <p:cNvPicPr/>
          <p:nvPr/>
        </p:nvPicPr>
        <p:blipFill>
          <a:blip r:embed="rId3"/>
          <a:stretch/>
        </p:blipFill>
        <p:spPr>
          <a:xfrm>
            <a:off x="3333600" y="549360"/>
            <a:ext cx="2500560" cy="26510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5537880" y="1471680"/>
            <a:ext cx="3602880" cy="2451240"/>
            <a:chOff x="5537880" y="1471680"/>
            <a:chExt cx="3602880" cy="2451240"/>
          </a:xfrm>
        </p:grpSpPr>
        <p:sp>
          <p:nvSpPr>
            <p:cNvPr id="59" name="Notched Right Arrow 9"/>
            <p:cNvSpPr/>
            <p:nvPr/>
          </p:nvSpPr>
          <p:spPr>
            <a:xfrm rot="8643600">
              <a:off x="5611320" y="2706480"/>
              <a:ext cx="1686600" cy="797040"/>
            </a:xfrm>
            <a:custGeom>
              <a:avLst/>
              <a:gdLst>
                <a:gd name="textAreaLeft" fmla="*/ 285120 w 1686600"/>
                <a:gd name="textAreaRight" fmla="*/ 1401480 w 1686600"/>
                <a:gd name="textAreaTop" fmla="*/ 199080 h 797040"/>
                <a:gd name="textAreaBottom" fmla="*/ 597960 h 7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4292" y="5400"/>
                  </a:lnTo>
                  <a:lnTo>
                    <a:pt x="14292" y="0"/>
                  </a:lnTo>
                  <a:lnTo>
                    <a:pt x="21600" y="10800"/>
                  </a:lnTo>
                  <a:lnTo>
                    <a:pt x="14292" y="21600"/>
                  </a:lnTo>
                  <a:lnTo>
                    <a:pt x="14292" y="16200"/>
                  </a:lnTo>
                  <a:lnTo>
                    <a:pt x="0" y="16200"/>
                  </a:lnTo>
                  <a:lnTo>
                    <a:pt x="3654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Oval 15"/>
            <p:cNvGrpSpPr/>
            <p:nvPr/>
          </p:nvGrpSpPr>
          <p:grpSpPr>
            <a:xfrm>
              <a:off x="6190920" y="1471680"/>
              <a:ext cx="2949840" cy="2139840"/>
              <a:chOff x="6190920" y="1471680"/>
              <a:chExt cx="2949840" cy="2139840"/>
            </a:xfrm>
          </p:grpSpPr>
          <p:pic>
            <p:nvPicPr>
              <p:cNvPr id="61" name="Oval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0920" y="1676520"/>
                <a:ext cx="2949840" cy="17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430000">
                <a:off x="6341760" y="2265120"/>
                <a:ext cx="264744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Verdana"/>
                    <a:ea typeface="Verdana"/>
                  </a:rPr>
                  <a:t>Degrad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9"/>
          <p:cNvGrpSpPr/>
          <p:nvPr/>
        </p:nvGrpSpPr>
        <p:grpSpPr>
          <a:xfrm>
            <a:off x="316440" y="3771720"/>
            <a:ext cx="2751480" cy="2633760"/>
            <a:chOff x="316440" y="3771720"/>
            <a:chExt cx="2751480" cy="2633760"/>
          </a:xfrm>
        </p:grpSpPr>
        <p:sp>
          <p:nvSpPr>
            <p:cNvPr id="64" name="Notched Right Arrow 10"/>
            <p:cNvSpPr/>
            <p:nvPr/>
          </p:nvSpPr>
          <p:spPr>
            <a:xfrm rot="8671200">
              <a:off x="1504800" y="4057560"/>
              <a:ext cx="1354320" cy="1152720"/>
            </a:xfrm>
            <a:custGeom>
              <a:avLst/>
              <a:gdLst>
                <a:gd name="textAreaLeft" fmla="*/ 271080 w 1354320"/>
                <a:gd name="textAreaRight" fmla="*/ 1083240 w 1354320"/>
                <a:gd name="textAreaTop" fmla="*/ 288000 h 1152720"/>
                <a:gd name="textAreaBottom" fmla="*/ 8647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2946" y="5400"/>
                  </a:lnTo>
                  <a:lnTo>
                    <a:pt x="12946" y="0"/>
                  </a:lnTo>
                  <a:lnTo>
                    <a:pt x="21600" y="10800"/>
                  </a:lnTo>
                  <a:lnTo>
                    <a:pt x="12946" y="21600"/>
                  </a:lnTo>
                  <a:lnTo>
                    <a:pt x="12946" y="16200"/>
                  </a:lnTo>
                  <a:lnTo>
                    <a:pt x="0" y="16200"/>
                  </a:lnTo>
                  <a:lnTo>
                    <a:pt x="432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6"/>
            <p:cNvSpPr/>
            <p:nvPr/>
          </p:nvSpPr>
          <p:spPr>
            <a:xfrm rot="2199000">
              <a:off x="383760" y="5054400"/>
              <a:ext cx="1922760" cy="862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Protein</a:t>
              </a: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syn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124080" y="4614840"/>
            <a:ext cx="2743200" cy="1970280"/>
            <a:chOff x="3124080" y="4614840"/>
            <a:chExt cx="2743200" cy="1970280"/>
          </a:xfrm>
        </p:grpSpPr>
        <p:sp>
          <p:nvSpPr>
            <p:cNvPr id="67" name="Notched Right Arrow 12"/>
            <p:cNvSpPr/>
            <p:nvPr/>
          </p:nvSpPr>
          <p:spPr>
            <a:xfrm rot="5400000">
              <a:off x="4013280" y="4526640"/>
              <a:ext cx="1046160" cy="1222200"/>
            </a:xfrm>
            <a:custGeom>
              <a:avLst/>
              <a:gdLst>
                <a:gd name="textAreaLeft" fmla="*/ 246600 w 1046160"/>
                <a:gd name="textAreaRight" fmla="*/ 799560 w 1046160"/>
                <a:gd name="textAreaTop" fmla="*/ 305640 h 1222200"/>
                <a:gd name="textAreaBottom" fmla="*/ 916920 h 12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406" y="5400"/>
                  </a:lnTo>
                  <a:lnTo>
                    <a:pt x="11406" y="0"/>
                  </a:lnTo>
                  <a:lnTo>
                    <a:pt x="21600" y="10800"/>
                  </a:lnTo>
                  <a:lnTo>
                    <a:pt x="11406" y="21600"/>
                  </a:lnTo>
                  <a:lnTo>
                    <a:pt x="11406" y="16200"/>
                  </a:lnTo>
                  <a:lnTo>
                    <a:pt x="0" y="16200"/>
                  </a:lnTo>
                  <a:lnTo>
                    <a:pt x="509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17"/>
            <p:cNvSpPr/>
            <p:nvPr/>
          </p:nvSpPr>
          <p:spPr>
            <a:xfrm>
              <a:off x="3124080" y="5769000"/>
              <a:ext cx="2743200" cy="816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Other Nitogen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containing comp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Group 20" descr=""/>
          <p:cNvPicPr/>
          <p:nvPr/>
        </p:nvPicPr>
        <p:blipFill>
          <a:blip r:embed="rId5"/>
          <a:stretch/>
        </p:blipFill>
        <p:spPr>
          <a:xfrm>
            <a:off x="6413400" y="4054320"/>
            <a:ext cx="2249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238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perammonemi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Increase of ammonia level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8995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od Ammo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rmal level of blood ammonia is 5-50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erammo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medical emergency as ammonia has a direct neurotoxic effect on 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 intoxic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t is defined as toxicity of the brain due to increase in ammonia level in the systemic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his increased ammonia will be directed to </a:t>
            </a:r>
            <a:r>
              <a:rPr b="1" lang="el-GR" sz="18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ketoglutarate to form glutamic acid then glutamine  leading to interference with citric acid cycle </a:t>
            </a:r>
            <a:r>
              <a:rPr b="1" lang="en-US" sz="18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so decrease ATP production in the brain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linical manifes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emors, slurring of speech, somnolence, vomiting, cerebral edema &amp; blurring of vision. At high concentrations, ammonia can cause coma &amp;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572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8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quired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-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iver diseases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e common causes in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cute causes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ral hepatitis, ischemia, hepatotox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ronic cau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iver cirrhosis due to alcoholism, hepatitis, biliary obstruction…etc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sult in the formation of collateral circulation around the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, portal blood is shunted directly into systemic circulation &amp; detoxic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f ammonia to urea is markedly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atrointestinal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y action of bacteria of GIT on blood urea with production of big amounts of ammonia that is absorbed to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3818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ditary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enetic deficiencies can occur for each of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ve enzym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of the urea cycle (overall prevalence 1:300,000 live bir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nithine transcarbamoylase (OTC)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-lin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st common deficiency among all 5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 are predominantly aff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 carriers are clinically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ll other urea cycle disorders are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autosomal recessiv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each case, failure to synthesize urea leads to hyperammonemia during the first weeks following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inherited disorders of the urea cycle enzymes result in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ntal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3640" y="1628640"/>
            <a:ext cx="844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imiting protein in 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ministration of compounds that bind covalently to amino acid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 produce nitrogen-containing molecules that are excreted in t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rine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henylbutyrat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iven orally converted to phenylacetate th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denses  with glutamine to form phenylacetylglutamine which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reted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eatment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Hyperammonemia in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na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oo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levels are ele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ransfer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intestine is increas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ch amount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is formed by </a:t>
            </a: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bsorb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yperamm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o reduce hyperammonem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ral neomycin reduces the amount of intestinal bacteri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responsible for ammonia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4211640" y="4076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"/>
          <p:cNvGrpSpPr/>
          <p:nvPr/>
        </p:nvGrpSpPr>
        <p:grpSpPr>
          <a:xfrm>
            <a:off x="4211640" y="1700280"/>
            <a:ext cx="0" cy="3168720"/>
            <a:chOff x="4211640" y="1700280"/>
            <a:chExt cx="0" cy="3168720"/>
          </a:xfrm>
        </p:grpSpPr>
        <p:sp>
          <p:nvSpPr>
            <p:cNvPr id="211" name="Line 4"/>
            <p:cNvSpPr/>
            <p:nvPr/>
          </p:nvSpPr>
          <p:spPr>
            <a:xfrm>
              <a:off x="4211640" y="170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4211640" y="25639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4211640" y="32846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>
              <a:off x="4211640" y="45802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468360" y="5373720"/>
            <a:ext cx="8351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0581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  <a:ea typeface="Verdana"/>
              </a:rPr>
              <a:t>Prote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4000" y="4652640"/>
            <a:ext cx="8348760" cy="1655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Most proteins in the body are constantly be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synthesize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&amp;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degrade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, permitting the removal of abnormal or unneede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3"/>
          <p:cNvSpPr/>
          <p:nvPr/>
        </p:nvSpPr>
        <p:spPr>
          <a:xfrm>
            <a:off x="4013280" y="1628640"/>
            <a:ext cx="772920" cy="517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315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76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rotein Degra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3840" y="907560"/>
            <a:ext cx="8605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endogenous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n-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extracellular proteins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5076720" y="3879720"/>
            <a:ext cx="3840120" cy="1494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5292720" y="1916280"/>
            <a:ext cx="3624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515880" y="2492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Amino Acids Catabo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83960" y="1341360"/>
            <a:ext cx="8708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Unlike glucose and fatty acids,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not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stored by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in excess of biosynthetic needs are degr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Degradation of </a:t>
            </a:r>
            <a:r>
              <a:rPr b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invol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First Stage:</a:t>
            </a:r>
            <a:r>
              <a:rPr b="1" i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Removal of </a:t>
            </a:r>
            <a:r>
              <a:rPr b="1" lang="el-GR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-amino group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ff"/>
                </a:solidFill>
                <a:latin typeface="Arial Narro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(N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 Narrow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 Narrow"/>
                <a:ea typeface="Times New Roman"/>
              </a:rPr>
              <a:t>Second Stage:</a:t>
            </a:r>
            <a:r>
              <a:rPr b="1" i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 Narrow"/>
                <a:ea typeface="Times New Roman"/>
              </a:rPr>
              <a:t>Remaining carbon skeleton                           Energy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"/>
          <p:cNvCxnSpPr/>
          <p:nvPr/>
        </p:nvCxnSpPr>
        <p:spPr>
          <a:xfrm>
            <a:off x="5292720" y="371592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2" name="Straight Arrow Connector 5"/>
          <p:cNvCxnSpPr/>
          <p:nvPr/>
        </p:nvCxnSpPr>
        <p:spPr>
          <a:xfrm>
            <a:off x="5219640" y="508428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4760" y="26028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 Catabolism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3"/>
          <p:cNvSpPr/>
          <p:nvPr/>
        </p:nvSpPr>
        <p:spPr>
          <a:xfrm>
            <a:off x="755640" y="334080"/>
            <a:ext cx="7561440" cy="52056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st phase of catabolism of 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4"/>
          <p:cNvSpPr/>
          <p:nvPr/>
        </p:nvSpPr>
        <p:spPr>
          <a:xfrm>
            <a:off x="4724280" y="1773360"/>
            <a:ext cx="2819520" cy="1431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th production of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lowchart: Alternate Process 7"/>
          <p:cNvSpPr/>
          <p:nvPr/>
        </p:nvSpPr>
        <p:spPr>
          <a:xfrm>
            <a:off x="5100480" y="3284640"/>
            <a:ext cx="2135520" cy="992160"/>
          </a:xfrm>
          <a:prstGeom prst="flowChartAlternateProcess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Free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8"/>
          <p:cNvSpPr/>
          <p:nvPr/>
        </p:nvSpPr>
        <p:spPr>
          <a:xfrm>
            <a:off x="4952880" y="4437000"/>
            <a:ext cx="259092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 Same Side Corner Rectangle 9"/>
          <p:cNvSpPr/>
          <p:nvPr/>
        </p:nvSpPr>
        <p:spPr>
          <a:xfrm>
            <a:off x="250920" y="5565600"/>
            <a:ext cx="3744720" cy="816120"/>
          </a:xfrm>
          <a:prstGeom prst="pie">
            <a:avLst/>
          </a:prstGeom>
          <a:solidFill>
            <a:srgbClr val="d6ecee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mall amount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0"/>
          <p:cNvSpPr/>
          <p:nvPr/>
        </p:nvSpPr>
        <p:spPr>
          <a:xfrm rot="3538800">
            <a:off x="3997440" y="4101120"/>
            <a:ext cx="533520" cy="1630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 Same Side Corner Rectangle 11"/>
          <p:cNvSpPr/>
          <p:nvPr/>
        </p:nvSpPr>
        <p:spPr>
          <a:xfrm>
            <a:off x="4800600" y="5867280"/>
            <a:ext cx="2743200" cy="80172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1403280" y="1125360"/>
            <a:ext cx="54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haroni"/>
              </a:rPr>
              <a:t>emoval of the α-amino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Jamal Younis</cp:lastModifiedBy>
  <dcterms:modified xsi:type="dcterms:W3CDTF">2016-10-09T08:52:12Z</dcterms:modified>
  <cp:revision>464</cp:revision>
  <dc:subject/>
  <dc:title>Overview</dc:title>
</cp:coreProperties>
</file>